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27E5-2A1E-491D-B80C-BEE270227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93D4-BE6D-485B-A69C-57E899389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66E4-FCBE-450D-A00D-81D7CDC22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4034-4AC1-4885-AEDF-699B9FE00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3278-59CC-459F-9E56-5617A2B0C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1CF4-4A5B-4843-9CD5-1F10B554B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7B59-F8B7-4061-B44E-4761C37C2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E9E6-AC63-4EEA-9289-B0DFF3E8E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1004-FD07-4EA1-AB48-2F80C0BA0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BE99-FA2D-4B77-A6F6-4C76744A4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E0BC-25DF-4511-9CB2-DD5FA8F06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B2A0-F768-44CF-A737-7052A914B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215F8-D5B3-4B51-8299-95C865FAC6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785880" y="630360"/>
            <a:ext cx="7543800" cy="5562360"/>
          </a:xfrm>
          <a:prstGeom prst="rect">
            <a:avLst/>
          </a:prstGeom>
          <a:solidFill>
            <a:srgbClr val="0066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857160" y="719280"/>
            <a:ext cx="7400880" cy="5384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954000" y="804960"/>
            <a:ext cx="7209000" cy="5211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2652840" y="857160"/>
            <a:ext cx="3809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 Antiqua"/>
              </a:rPr>
              <a:t>Certificate of Bapt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0"/>
          <p:cNvSpPr/>
          <p:nvPr/>
        </p:nvSpPr>
        <p:spPr>
          <a:xfrm>
            <a:off x="2652840" y="1308240"/>
            <a:ext cx="380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Book Antiqua"/>
              </a:rPr>
              <a:t>~  This is to certify  ~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2"/>
          <p:cNvSpPr/>
          <p:nvPr/>
        </p:nvSpPr>
        <p:spPr>
          <a:xfrm>
            <a:off x="2309760" y="1849320"/>
            <a:ext cx="449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ook Antiqua"/>
              </a:rPr>
              <a:t>That 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3"/>
          <p:cNvSpPr/>
          <p:nvPr/>
        </p:nvSpPr>
        <p:spPr>
          <a:xfrm>
            <a:off x="1298520" y="2219400"/>
            <a:ext cx="6518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ook Antiqua"/>
              </a:rPr>
              <a:t>Was Baptized in the Name of the Father, and of the Son, and of the Holy Spir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ook Antiqua"/>
              </a:rPr>
              <a:t>with the intention of remitting Original Sin … by the person doing the baptis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5"/>
          <p:cNvSpPr/>
          <p:nvPr/>
        </p:nvSpPr>
        <p:spPr>
          <a:xfrm>
            <a:off x="1243080" y="2895480"/>
            <a:ext cx="662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ook Antiqua"/>
              </a:rPr>
              <a:t>On the  _______  day of  _________________  in the  _______  year of Our Lo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7"/>
          <p:cNvSpPr/>
          <p:nvPr/>
        </p:nvSpPr>
        <p:spPr>
          <a:xfrm>
            <a:off x="1025640" y="5467320"/>
            <a:ext cx="7062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Book Antiqua"/>
              </a:rPr>
              <a:t>According to the Rite of the Catholic Church in pure and natural wat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8"/>
          <p:cNvSpPr/>
          <p:nvPr/>
        </p:nvSpPr>
        <p:spPr>
          <a:xfrm>
            <a:off x="2155680" y="3962520"/>
            <a:ext cx="480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ook Antiqua"/>
              </a:rPr>
              <a:t>At  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9"/>
          <p:cNvSpPr/>
          <p:nvPr/>
        </p:nvSpPr>
        <p:spPr>
          <a:xfrm>
            <a:off x="2200320" y="4429080"/>
            <a:ext cx="471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ook Antiqua"/>
              </a:rPr>
              <a:t>Baptized by  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0"/>
          <p:cNvSpPr/>
          <p:nvPr/>
        </p:nvSpPr>
        <p:spPr>
          <a:xfrm>
            <a:off x="2200320" y="4896000"/>
            <a:ext cx="471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ook Antiqua"/>
              </a:rPr>
              <a:t>Witnessed by  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1"/>
          <p:cNvSpPr/>
          <p:nvPr/>
        </p:nvSpPr>
        <p:spPr>
          <a:xfrm>
            <a:off x="2652840" y="3429000"/>
            <a:ext cx="380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Book Antiqua"/>
              </a:rPr>
              <a:t>~   ~   ~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4T16:38:45Z</dcterms:created>
  <dc:creator>Mike Bizzaro</dc:creator>
  <dc:description/>
  <dc:language>en-US</dc:language>
  <cp:lastModifiedBy>Michael Bizzaro</cp:lastModifiedBy>
  <dcterms:modified xsi:type="dcterms:W3CDTF">2020-12-06T02:44:14Z</dcterms:modified>
  <cp:revision>11</cp:revision>
  <dc:subject/>
  <dc:title>Slide 1</dc:title>
</cp:coreProperties>
</file>